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73D6-5E26-4145-A6F8-D8D1CA6B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CDE1-BBDA-4D71-B1A5-E70C260E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EBDC-2B05-450E-BBA9-1648E1DA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2FEB-A0F1-4C38-B760-170326E4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8F72F-AB14-4D63-9067-CC20B745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B82E8-FDF0-4245-856B-F75A8DBB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489F4-DDCD-44EE-A51E-50A5E62B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A7576-D06F-432A-B9C6-260FC778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D9CA6-9759-4B4C-9C70-17804085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81BC2-5D79-49F1-82CF-8DE9C14A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55051-0FA1-4FEE-B9D6-3595BA89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806D-2663-48BA-AE3E-7234F2BF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BD7F6-C087-4A8D-8AF7-E90D8C5C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A64AC-8AD6-44C7-B6AD-E45B7832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942ED-D2BD-4DCC-A638-7552DA8F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06EF3-4285-40D7-82DB-A3EFFE30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F1139-4483-4D20-8F57-09A8259B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23D2-0114-4460-86C0-C33365D9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53D7-0EDD-4CA2-BFCD-4A7348D6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C66F-6A5C-4686-B1B9-31136A80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F4AE-6F34-436A-88C1-8E507597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C98E-F13A-43C2-9C29-DD511040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15C3-FED2-4643-883C-D80059CD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EA2B-5063-41D5-9009-21029AF9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B653-80EB-46FD-812D-F9852289FB07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95280" y="914400"/>
            <a:ext cx="6629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019920"/>
            <a:ext cx="8305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705000" y="609588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3399ff"/>
                </a:solidFill>
                <a:latin typeface="華康粗黑體"/>
                <a:ea typeface="華康粗黑體"/>
              </a:rPr>
              <a:t>工業技術研究院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91760" y="6248520"/>
            <a:ext cx="793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3399ff"/>
                </a:solidFill>
                <a:latin typeface="華康中黑體"/>
                <a:ea typeface="華康中黑體"/>
              </a:rPr>
              <a:t>環境與安全衛生技術發展中心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580800" y="6370560"/>
            <a:ext cx="207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99ff"/>
                </a:solidFill>
                <a:latin typeface="Bookman Old Style"/>
              </a:rPr>
              <a:t>Industrial Technology Research Institut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527880" y="6508800"/>
            <a:ext cx="2311200" cy="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3399ff"/>
                </a:solidFill>
                <a:latin typeface="Times New Roman"/>
              </a:rPr>
              <a:t>Center for Environmental Safety &amp; Health Technology Development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" name=""/>
          <p:cNvGraphicFramePr/>
          <p:nvPr/>
        </p:nvGraphicFramePr>
        <p:xfrm>
          <a:off x="6019920" y="6095880"/>
          <a:ext cx="476280" cy="4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6095880"/>
                    <a:ext cx="47628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8F8D-619B-418D-B970-7CC70DD83C8C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914400"/>
            <a:ext cx="6629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6019920"/>
            <a:ext cx="8305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05000" y="609588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3399ff"/>
                </a:solidFill>
                <a:latin typeface="華康粗黑體"/>
                <a:ea typeface="華康粗黑體"/>
              </a:rPr>
              <a:t>工業技術研究院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91760" y="6248520"/>
            <a:ext cx="793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3399ff"/>
                </a:solidFill>
                <a:latin typeface="華康中黑體"/>
                <a:ea typeface="華康中黑體"/>
              </a:rPr>
              <a:t>環境與安全衛生技術發展中心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80800" y="6370560"/>
            <a:ext cx="207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99ff"/>
                </a:solidFill>
                <a:latin typeface="Bookman Old Style"/>
              </a:rPr>
              <a:t>Industrial Technology Research Institut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27880" y="6508800"/>
            <a:ext cx="2311200" cy="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3399ff"/>
                </a:solidFill>
                <a:latin typeface="Times New Roman"/>
              </a:rPr>
              <a:t>Center for Environmental Safety &amp; Health Technology Development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019920" y="6095880"/>
          <a:ext cx="476280" cy="4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6095880"/>
                    <a:ext cx="47628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57200" y="6105600"/>
          <a:ext cx="743040" cy="75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6105600"/>
                    <a:ext cx="7430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北區毒災應變諮詢中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4038480"/>
            <a:ext cx="73152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 </a:t>
            </a:r>
            <a:r>
              <a:rPr b="1" lang="zh-TW" sz="40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報告者：陳 范 倫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中華民國 九十一 年 八 月 二十 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00200"/>
            <a:ext cx="914400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毒災聯防小組之運作現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與規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600" y="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華康細圓體"/>
                <a:ea typeface="華康細圓體"/>
              </a:rPr>
              <a:t>毒災聯防小組之法律責任</a:t>
            </a:r>
            <a:r>
              <a:rPr b="0" lang="zh-TW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1800" y="1143000"/>
            <a:ext cx="8572680" cy="54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一、目前並無相關法令強制加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二、簽署聯防支援協定，以確保聯防小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在提供互救時可獲得應有之器材與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力費用的補償，若有爭議由仲裁單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協調，提高廠商的互救意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14400" y="1100160"/>
            <a:ext cx="7848720" cy="47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一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)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對象：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環保署與轄區縣市環保單位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2.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其他相關政府單位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3.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轄區運作業者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二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)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緊急諮詢方式：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.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上班時間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8:00~17:30)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：專線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-</a:t>
            </a:r>
            <a:r>
              <a:rPr b="1" lang="zh-TW" sz="2600" spc="-1" strike="noStrike" u="sng">
                <a:solidFill>
                  <a:srgbClr val="ffcc00"/>
                </a:solidFill>
                <a:uFillTx/>
                <a:latin typeface="Arial Narrow"/>
                <a:ea typeface="華康細圓體"/>
              </a:rPr>
              <a:t>0800057119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2.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下班時間與例假日：大哥大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-</a:t>
            </a:r>
            <a:r>
              <a:rPr b="1" lang="zh-TW" sz="2600" spc="-1" strike="noStrike" u="sng">
                <a:solidFill>
                  <a:srgbClr val="ff9933"/>
                </a:solidFill>
                <a:uFillTx/>
                <a:latin typeface="Arial Narrow"/>
                <a:ea typeface="華康細圓體"/>
              </a:rPr>
              <a:t>0952330005~8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(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三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)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非緊急諮詢方式：</a:t>
            </a:r>
            <a:r>
              <a:rPr b="1" lang="zh-TW" sz="2600" spc="-1" strike="noStrike" u="sng">
                <a:solidFill>
                  <a:srgbClr val="ff9933"/>
                </a:solidFill>
                <a:uFillTx/>
                <a:latin typeface="Arial Narrow"/>
                <a:ea typeface="華康細圓體"/>
              </a:rPr>
              <a:t>035917777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、</a:t>
            </a:r>
            <a:r>
              <a:rPr b="1" lang="zh-TW" sz="2600" spc="-1" strike="noStrike" u="sng">
                <a:solidFill>
                  <a:srgbClr val="ff9933"/>
                </a:solidFill>
                <a:uFillTx/>
                <a:latin typeface="Arial Narrow"/>
                <a:ea typeface="華康細圓體"/>
              </a:rPr>
              <a:t>03-591614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562720" y="1523880"/>
            <a:ext cx="2971800" cy="2229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319040" y="0"/>
            <a:ext cx="665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中心緊急諮詢服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186080" y="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ahoma"/>
                <a:ea typeface="華康細圓體"/>
              </a:rPr>
              <a:t>一般諮詢服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836640"/>
            <a:ext cx="7921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需要提供毒性化學物質的物質安全資料表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MSDS)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、防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手冊、毒理相關資料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需要提供北區毒災應變諮詢中心的應變流程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SOP)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與服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內容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提供毒性化學物質運作工廠的危害預防應變作業要點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劃、偵測警報建置與選擇、緊急應變工具與裝備的選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提供毒災應變訓練課程與教材，演練腳本的提供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其他諮詢服務，如：毒性化學物質種類判定、聯防小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的編組方式與法律效力、毒化物廢棄處理方式與後續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運廠商、無預警測試的方式與日期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905120" y="923760"/>
          <a:ext cx="3835440" cy="500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923760"/>
                    <a:ext cx="383544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5334120" y="1228680"/>
            <a:ext cx="1066680" cy="67644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1752480"/>
            <a:ext cx="1905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全真標準楷書"/>
                <a:ea typeface="華康細圓體"/>
              </a:rPr>
              <a:t>基隆市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1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105520" y="2857680"/>
            <a:ext cx="1295280" cy="2664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297180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全真標準楷書"/>
                <a:ea typeface="華康細圓體"/>
              </a:rPr>
              <a:t>花蓮縣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1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133720" y="2209680"/>
            <a:ext cx="1981080" cy="9907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29718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苗栗縣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1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361960" y="1609560"/>
            <a:ext cx="2057400" cy="3715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828800"/>
            <a:ext cx="17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新竹縣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3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657240" y="1219320"/>
            <a:ext cx="12193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1981080"/>
            <a:ext cx="914400" cy="60984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00800" y="23623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宜蘭縣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1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209320" y="1447920"/>
            <a:ext cx="2210040" cy="1522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桃園縣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7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9907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台北縣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2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整合後的毒災聯防小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105160" y="1219320"/>
            <a:ext cx="144756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29400" y="1066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台北市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1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590560" y="1752480"/>
            <a:ext cx="1600200" cy="6858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2362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新竹市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1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76720" y="4508640"/>
            <a:ext cx="406728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北區共有</a:t>
            </a:r>
            <a:r>
              <a:rPr b="0" lang="zh-TW" sz="36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383</a:t>
            </a:r>
            <a:r>
              <a:rPr b="0" lang="zh-TW" sz="36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家廠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               </a:t>
            </a:r>
            <a:r>
              <a:rPr b="0" lang="zh-TW" sz="36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劃分為</a:t>
            </a:r>
            <a:r>
              <a:rPr b="0" lang="zh-TW" sz="36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18</a:t>
            </a:r>
            <a:r>
              <a:rPr b="0" lang="zh-TW" sz="36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4000" y="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ff"/>
                </a:solidFill>
                <a:latin typeface="Arial Narrow"/>
                <a:ea typeface="華康細圓體"/>
              </a:rPr>
              <a:t>  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國外聯防組織的編組方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7240" y="990720"/>
            <a:ext cx="79218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一、以區域性來編組：如相同工業區、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2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近城鎮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二、以運作相同的化學品來編組：如氯氣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</a:t>
            </a: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TDI(</a:t>
            </a: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此大部分為運輸需求，如</a:t>
            </a: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CHLOR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</a:t>
            </a: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、</a:t>
            </a: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SMAR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三、工會組織的方式：如化工業、責任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</a:t>
            </a: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顧協會</a:t>
            </a: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TR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毒災聯防小組的角色定位</a:t>
            </a:r>
            <a:r>
              <a:rPr b="1" lang="zh-TW" sz="44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1680" y="685800"/>
            <a:ext cx="8153280" cy="49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一、應變工具與個人防護裝備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支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二、應變專家技術諮詢提供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三、應變人力的提供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" y="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毒災聯防小組的落實</a:t>
            </a:r>
            <a:r>
              <a:rPr b="1" lang="zh-TW" sz="44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680" y="509760"/>
            <a:ext cx="8572320" cy="58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一、各廠商可提供應變工具與個人防護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裝備的資料更新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種類、廠牌、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量等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二、各廠商二十四小時聯絡窗口與應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專家建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三、資料可上網，以權限及密碼來查詢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管理及資料更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毒災聯防小組的落實</a:t>
            </a:r>
            <a:r>
              <a:rPr b="1" lang="zh-TW" sz="44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680" y="509760"/>
            <a:ext cx="8572320" cy="52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四、聯防支援協定的簽署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權利與義務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聯防小組的組織架構及工作規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支援的時機及表格文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支援的角色定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4.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支援的人力費用及設備費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5.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使用後歸還的機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6.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仲裁單位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環保、消防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.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ahoma"/>
                <a:ea typeface="華康細圓體"/>
              </a:rPr>
              <a:t>毒災聯防小組的訓練規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533520"/>
            <a:ext cx="8572680" cy="69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一、透過縣市環保單位定期舉辦會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與訓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二、毒災應變諮詢中心規劃有系統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教育訓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三、定期舉辦毒災應變演練觀摩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十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底於新竹縣、十一月底於桃園縣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四、定期提供簡訊與演練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VC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01:20:15Z</dcterms:created>
  <dc:creator>aaa</dc:creator>
  <dc:description/>
  <dc:language>en-US</dc:language>
  <cp:lastModifiedBy>aaa</cp:lastModifiedBy>
  <dcterms:modified xsi:type="dcterms:W3CDTF">2002-12-30T05:09:29Z</dcterms:modified>
  <cp:revision>55</cp:revision>
  <dc:subject/>
  <dc:title>PowerPoint 簡報</dc:title>
</cp:coreProperties>
</file>